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1ACE-1780-4325-9995-78D8582DD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5597-69FC-458A-81B5-8F110D36A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BAF9-96A9-4352-A20E-93714F36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48BC-BE09-47E7-9BCB-8964696D0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833D-5313-4B33-8475-4EBE28D63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92F0-1019-44C0-A5D6-E73F0E52D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C9C0-E19D-4EE1-ADEF-1496A1D9E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9EF2-4364-4C09-8A75-CC9A8A2D7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235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8721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70CB-77FC-4447-AB96-69B7F7758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DCA4-30E7-4818-8A84-6C43BF65C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8665-7515-4654-A0FC-CC32E34EB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9D9F-8360-4BE2-B0C8-01DE1645C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CE08-F5D9-4771-A876-0E9F037B6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2CFF-5CB3-4D28-8FAD-04E6804C0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4B9B-3039-489E-AC2A-448B3C8C4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87216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9278-E7AA-49A3-8EB5-A084CEC9F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23520"/>
            <a:ext cx="39412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872160"/>
            <a:ext cx="8076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D3C3-1F37-41BC-BB11-F69459D19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45259E72-29EE-46CA-9136-0CCE1718AA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CC7151F9-AC96-416D-9E70-2A2181AA09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t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bo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dr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lik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ê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v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re ir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08_01_p132a"/>
          <p:cNvPicPr/>
          <p:nvPr/>
        </p:nvPicPr>
        <p:blipFill>
          <a:blip r:embed="rId1"/>
          <a:stretch/>
        </p:blipFill>
        <p:spPr>
          <a:xfrm>
            <a:off x="1523880" y="3352680"/>
            <a:ext cx="5981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9334EAD0-62F7-496F-A3A1-BC61C9CE2E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8_01_p132b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2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08_01_p132c"/>
          <p:cNvPicPr/>
          <p:nvPr/>
        </p:nvPicPr>
        <p:blipFill>
          <a:blip r:embed="rId2"/>
          <a:stretch/>
        </p:blipFill>
        <p:spPr>
          <a:xfrm>
            <a:off x="1523880" y="4191120"/>
            <a:ext cx="6307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A5B0E21F-FBFF-447A-B8C6-8C0D18AA79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s of the verb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ppr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lea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mpr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underst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llow the same pattern as that of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8_01_p132e"/>
          <p:cNvPicPr/>
          <p:nvPr/>
        </p:nvPicPr>
        <p:blipFill>
          <a:blip r:embed="rId1"/>
          <a:stretch/>
        </p:blipFill>
        <p:spPr>
          <a:xfrm>
            <a:off x="1219320" y="3414600"/>
            <a:ext cx="6694200" cy="197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08_01_p132d"/>
          <p:cNvPicPr/>
          <p:nvPr/>
        </p:nvPicPr>
        <p:blipFill>
          <a:blip r:embed="rId2"/>
          <a:stretch/>
        </p:blipFill>
        <p:spPr>
          <a:xfrm>
            <a:off x="1371600" y="2743200"/>
            <a:ext cx="6477120" cy="76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08_01_p132f"/>
          <p:cNvPicPr/>
          <p:nvPr/>
        </p:nvPicPr>
        <p:blipFill>
          <a:blip r:embed="rId3"/>
          <a:stretch/>
        </p:blipFill>
        <p:spPr>
          <a:xfrm>
            <a:off x="1447920" y="5319720"/>
            <a:ext cx="68580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81B28DC9-C8B6-4A1B-B988-DD3985BBC0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essayez"/>
          <p:cNvPicPr/>
          <p:nvPr/>
        </p:nvPicPr>
        <p:blipFill>
          <a:blip r:embed="rId1"/>
          <a:stretch/>
        </p:blipFill>
        <p:spPr>
          <a:xfrm>
            <a:off x="568440" y="1371600"/>
            <a:ext cx="804852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934920" y="2743200"/>
          <a:ext cx="7620120" cy="335268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 soeur _______ (prendre) une salade au déjeuner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 parents ______  (prendre) un taxi ce soir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 (boire) une eau minérale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vous êtes fatigués, vous _______ (boire) un café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ais _______ (apprendre) à parler japonais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89"/>
                        </a:spcBef>
                        <a:spcAft>
                          <a:spcPts val="689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 (apprendre) très vite (fast) les leçons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4"/>
          <p:cNvSpPr/>
          <p:nvPr/>
        </p:nvSpPr>
        <p:spPr>
          <a:xfrm>
            <a:off x="914400" y="1600200"/>
            <a:ext cx="771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tilisez la forme correcte du verb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re parenthès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4"/>
          <p:cNvSpPr/>
          <p:nvPr/>
        </p:nvSpPr>
        <p:spPr>
          <a:xfrm>
            <a:off x="2763720" y="27432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483c8"/>
                </a:solidFill>
                <a:latin typeface="Comic Sans MS"/>
              </a:rPr>
              <a:t>pr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whs</cp:lastModifiedBy>
  <dcterms:modified xsi:type="dcterms:W3CDTF">2013-02-19T02:30:19Z</dcterms:modified>
  <cp:revision>36</cp:revision>
  <dc:subject>Structures 8.1</dc:subject>
  <dc:title>PROMENADES</dc:title>
</cp:coreProperties>
</file>